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98520"/>
            <a:ext cx="1046484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9852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9852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63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63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63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98520"/>
            <a:ext cx="3369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63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98520"/>
            <a:ext cx="3369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63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98520"/>
            <a:ext cx="3369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63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1486080"/>
            <a:ext cx="10464840" cy="160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79852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79852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798520"/>
            <a:ext cx="1046484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798520"/>
            <a:ext cx="1046484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79852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79852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63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63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63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798520"/>
            <a:ext cx="3369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63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798520"/>
            <a:ext cx="3369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63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798520"/>
            <a:ext cx="3369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63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486080"/>
            <a:ext cx="10464840" cy="160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9852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9852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98520"/>
            <a:ext cx="1046484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98520"/>
            <a:ext cx="1046484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9852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9852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63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63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63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98520"/>
            <a:ext cx="3369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63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98520"/>
            <a:ext cx="3369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63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98520"/>
            <a:ext cx="3369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63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486080"/>
            <a:ext cx="10464840" cy="160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9852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9852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98520"/>
            <a:ext cx="10464840" cy="7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96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0000"/>
          </a:bodyPr>
          <a:p>
            <a:pPr marL="6840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  <a:p>
            <a:pPr lvl="1" marL="68400" indent="-68400">
              <a:spcBef>
                <a:spcPts val="4201"/>
              </a:spcBef>
              <a:buClr>
                <a:srgbClr val="2f1a14"/>
              </a:buClr>
              <a:buFont typeface="Papyrus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  <a:p>
            <a:pPr lvl="2" marL="68400" indent="-68400">
              <a:spcBef>
                <a:spcPts val="4201"/>
              </a:spcBef>
              <a:buClr>
                <a:srgbClr val="2f1a14"/>
              </a:buClr>
              <a:buFont typeface="Papyru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  <a:p>
            <a:pPr lvl="3" marL="68400" indent="-68400">
              <a:spcBef>
                <a:spcPts val="4201"/>
              </a:spcBef>
              <a:buClr>
                <a:srgbClr val="2f1a14"/>
              </a:buClr>
              <a:buFont typeface="Papyrus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  <a:p>
            <a:pPr lvl="4" marL="68400" indent="-68400">
              <a:spcBef>
                <a:spcPts val="4201"/>
              </a:spcBef>
              <a:buClr>
                <a:srgbClr val="2f1a14"/>
              </a:buClr>
              <a:buFont typeface="Papyrus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  <a:p>
            <a:pPr lvl="5" marL="68400" indent="-68400">
              <a:spcBef>
                <a:spcPts val="4201"/>
              </a:spcBef>
              <a:buClr>
                <a:srgbClr val="2f1a14"/>
              </a:buClr>
              <a:buFont typeface="Papyrus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  <a:p>
            <a:pPr lvl="6" marL="68400" indent="-68400">
              <a:spcBef>
                <a:spcPts val="4201"/>
              </a:spcBef>
              <a:buClr>
                <a:srgbClr val="2f1a14"/>
              </a:buClr>
              <a:buFont typeface="Papyrus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96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96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9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270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  <a:p>
            <a:pPr lvl="1" marL="270720" indent="-270720">
              <a:spcBef>
                <a:spcPts val="4201"/>
              </a:spcBef>
              <a:buClr>
                <a:srgbClr val="2f1a14"/>
              </a:buClr>
              <a:buFont typeface="Papyrus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  <a:p>
            <a:pPr lvl="2" marL="270720" indent="-270720">
              <a:spcBef>
                <a:spcPts val="4201"/>
              </a:spcBef>
              <a:buClr>
                <a:srgbClr val="2f1a14"/>
              </a:buClr>
              <a:buFont typeface="Papyru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  <a:p>
            <a:pPr lvl="3" marL="270720" indent="-270720">
              <a:spcBef>
                <a:spcPts val="4201"/>
              </a:spcBef>
              <a:buClr>
                <a:srgbClr val="2f1a14"/>
              </a:buClr>
              <a:buFont typeface="Papyrus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  <a:p>
            <a:pPr lvl="4" marL="270720" indent="-270720">
              <a:spcBef>
                <a:spcPts val="4201"/>
              </a:spcBef>
              <a:buClr>
                <a:srgbClr val="2f1a14"/>
              </a:buClr>
              <a:buFont typeface="Papyrus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  <a:p>
            <a:pPr lvl="5" marL="270720" indent="-270720">
              <a:spcBef>
                <a:spcPts val="4201"/>
              </a:spcBef>
              <a:buClr>
                <a:srgbClr val="2f1a14"/>
              </a:buClr>
              <a:buFont typeface="Papyrus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  <a:p>
            <a:pPr lvl="6" marL="270720" indent="-270720">
              <a:spcBef>
                <a:spcPts val="4201"/>
              </a:spcBef>
              <a:buClr>
                <a:srgbClr val="2f1a14"/>
              </a:buClr>
              <a:buFont typeface="Papyrus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2806560" y="1438200"/>
            <a:ext cx="7404120" cy="56293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640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English-August 28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How the World Was Made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Page 24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A Cherokee myth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Vocabulary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07960" indent="-50796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Vaul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507960" indent="-50796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Aligh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507960" indent="-507960"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Conjurer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507960" indent="-507960"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Reverence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Questions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041200"/>
            <a:ext cx="11164680" cy="67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07960" indent="-50796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Explain how hair is used as a metaphor in lines 14-15.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507960" indent="-50796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In a paragraph explain why you think the Cherokee people chose to pass on this myth?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507960" indent="-507960"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What is an archetype that appears in this story? Explain.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Page 26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07960" indent="-50796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Questions 2, 3, 4, 5, 6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The Sky Tree</a:t>
            </a:r>
            <a:br>
              <a:rPr sz="7200"/>
            </a:b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A Huron Legend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07960" indent="-50796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Page 35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Questions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07960" indent="-50796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Why is the old chief's dream important to the story?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507960" indent="-50796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What does this story show us about the Huron's beliefs about the roles of husbands and wives? 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507960" indent="-507960"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Would you describe Aataentsic's actions as heroic? Explain.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Homework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Do packet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gie McCall</dc:creator>
  <dc:description/>
  <dc:language>en-US</dc:language>
  <cp:lastModifiedBy>Angie McCall</cp:lastModifiedBy>
  <dcterms:modified xsi:type="dcterms:W3CDTF">2013-08-28T20:19:56Z</dcterms:modified>
  <cp:revision>1</cp:revision>
  <dc:subject/>
  <dc:title>English-August 28</dc:title>
</cp:coreProperties>
</file>